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EDD-5DE2-4DB6-B6AD-0619FA8A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EC6-6C4F-44FE-9767-674F79C3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424-3404-494A-9965-8B22A4B3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411-E84A-4FBE-9632-C652D9FB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14B3-5559-4A7B-80C0-65E24420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E65A-0DDE-44A8-8B2F-902AFA5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6A44-8D29-4EAD-B0A3-39C3C6A5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DEFE-C038-4179-87F0-28585BB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29BB-F7A2-4EA7-A391-B0C1CBA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BA30-F93D-4A80-985C-8C3D743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C51D-72D3-4D98-ACC7-A2C56AAC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D1D-29E3-479D-9EB7-C56AD30D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3415-8FE4-4251-89DC-B36F604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2E31-F05D-4AD9-81CA-009B06D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0BEA-29E5-4196-A251-9548EDF8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AF36-CA18-4087-B7C8-D90AE1B4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2C1-197E-4C08-81DD-48D0B602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D71-FE2B-4F79-B2ED-B8389F7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C38-1369-4D44-BB56-5B317A99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F71-0040-48FF-A53F-6A83EFB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B62-5062-40E3-954D-3658DFB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D07-D2D1-4BA6-BE85-EF1F31A6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2BF-8758-4591-AC7F-49B7D381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2E8-B868-445D-B22B-B24C9F4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C235-6B8E-43F1-B04E-CC026E77ECED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765-1428-48E4-9DD4-6776F449245E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ork, Energy and Pow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Kinetic energy is the energy of motion. An object which has motion - whether it be vertical or horizontal motion - has kinetic energ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ere are many forms of kinetic energy - vibratory (the energy due to vibratory motion), rotational (the energy due to rotational motion), and translational (the energy due to motion from one location to anothe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The amount of translational kinetic energy (from here on, the phrase kinetic energy will refer to translational kinetic energy) which an object has depends upon two variabl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the mass (m) of the object and the speed (v) of the objec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inued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e following equation is used to represent the kinetic energy (E</a:t>
            </a:r>
            <a:r>
              <a:rPr b="0" lang="en-CA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) of an ob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en-CA" sz="2800" spc="-1" strike="noStrike" baseline="-25000">
                <a:solidFill>
                  <a:srgbClr val="ffffcc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=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½ m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= ma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 = velo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is equation reveals tha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of an object is directly proportional to the square of its speed. That means that if speed doubles,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will increase by a factor of fo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E continu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Kinetic energy is a sc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 quantity;</a:t>
            </a: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 it does not have a direction. Unlike veloc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, acceleration, force, and momentum, the kinetic energy of an object is completely described by magnitude al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Like work and potential energy, the standard metric units of measurement for kinetic energy is the Joule</a:t>
            </a:r>
            <a:r>
              <a:rPr b="0" lang="en-CA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Determine the kinetic energy of a 1000-kg roller coaster car that is moving with a speed of 20.0 m/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½ m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½ (1000kg)(20.0m/s)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200 000 Jou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2.00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oules or 200 kJ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If the roller coaster car in the above problem were moving with twice the speed, then what would be its new kinetic energ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½ m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½ (1000kg)(40.0m/s)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800 000 Jo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8.00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oules or 800 kJ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Missy Diwater, the former platform diver for the Ringling Brother's Circus had a kinetic energy of 15kJ just prior to hitting the bucket of water. If Missy's mass is 50 kg, then what is her spe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½ m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5 000 J = ½ (50kg)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(15000) = 50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3000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 =24.5m/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ulate the velocity of a fist with a mass of 750g while being slammed into a board with a force of 50 N over a distance of 35 cm.(watch out for units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W = ½ m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 = F d = ½ (0.75kg) 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0 N x 0.35 m = ½ (0.75kg) 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7. 5/ 0.375 = 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6.83 m/s = 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0:50:02Z</dcterms:created>
  <dc:creator>Chantal Burns</dc:creator>
  <dc:description/>
  <dc:language>en-US</dc:language>
  <cp:lastModifiedBy>nbdoe</cp:lastModifiedBy>
  <dcterms:modified xsi:type="dcterms:W3CDTF">2009-04-16T12:21:33Z</dcterms:modified>
  <cp:revision>7</cp:revision>
  <dc:subject/>
  <dc:title>Work, Energy and Power</dc:title>
</cp:coreProperties>
</file>